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F9C9-AB25-44F2-884F-2147E5BDF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B248-29AE-429C-840F-1FE660D95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9D80-0429-4147-A4F3-8DC17790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2A76-BBA3-45AA-B845-24CCB744B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A1C9-E34B-44A4-B3AB-040B52489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43A4-6B4B-4E27-9627-8CB2323A1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68AB-FE52-4E13-B033-A7D7ED1F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17C5-77AA-45BE-B106-DF8628D6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0C713-6E72-4E98-AF0E-0A3A50F3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1F4A9-D1F0-40DE-B649-0BB2420D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765B9-E757-4BC4-BC57-EA2DDD193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4A0F-4248-4341-B6DA-2F58ABB1C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23C7-BC2A-40CB-A80D-182328DC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0D4FF-2CAF-49EC-BFEE-E4581785C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1098-D904-41C6-B900-C5ED237C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6E409-E378-4313-9EED-85CB5BFB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AB54-62F5-43DE-B792-BDF55AEB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4D3-6D86-44E9-AAF1-764C5321C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0179-4391-4B08-AD1D-F5B56C08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2A1B-A5FC-4C0C-87FC-F27B92DE0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474-D2E9-49D8-A1C1-39A57E981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0AF47-E2E3-4BC4-A565-98DBEB847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D647-9F82-484F-80BC-03596056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AC50-D87B-4F17-82CF-91F5C63EB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7DB74-6DDF-4240-99D8-509B3506E4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A1DF-FC07-4213-A199-9D9FA1A7A64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6560" y="260280"/>
            <a:ext cx="7620120" cy="169704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IL GIORNALINO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della Class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258920" y="2637000"/>
            <a:ext cx="6618240" cy="40320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a Pag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na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vi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ta dei let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51480" y="2400480"/>
            <a:ext cx="2879640" cy="4572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M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RIMA PAGIN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RONACA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8c0039"/>
                </a:solidFill>
                <a:latin typeface="Arial"/>
              </a:rPr>
              <a:t>INTERVISTA a…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POSTA DEI LETTORI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7T12:20:49Z</dcterms:created>
  <dc:creator>.</dc:creator>
  <dc:description/>
  <dc:language>en-US</dc:language>
  <cp:lastModifiedBy>.</cp:lastModifiedBy>
  <dcterms:modified xsi:type="dcterms:W3CDTF">2007-10-07T15:50:12Z</dcterms:modified>
  <cp:revision>11</cp:revision>
  <dc:subject/>
  <dc:title>IL GIORNALINO della Classe</dc:title>
</cp:coreProperties>
</file>